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8A5-F8BC-4AB9-9086-0334A91B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3A3-9AB6-45C2-A41C-F5AE0D71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EFF-21ED-4B85-8B23-1F974E26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ABD-B70D-457D-9AE9-8F5C9AA0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313-33C0-4246-9B29-0150C6C6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A12-9F18-4FC1-A29A-A2F5BA10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BD5-3A00-4C5C-8686-B5EE5AE0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C00-684E-40D3-9F4A-BCF478AB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025-7D30-4B57-B90D-8D140A22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31E-483C-43E1-828C-722A18C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C02-AEF0-4B42-9056-33ED358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23F-B796-4B29-899E-AE520FC0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8A8E-88F1-4E67-A589-CC286C6D0C0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4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773360"/>
            <a:ext cx="813744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0080"/>
                </a:solidFill>
                <a:latin typeface="Minion"/>
                <a:ea typeface="文鼎中黑"/>
              </a:rPr>
              <a:t>Systemtest Europe</a:t>
            </a:r>
            <a:br>
              <a:rPr sz="4400"/>
            </a:br>
            <a:r>
              <a:rPr b="1" lang="zh-TW" sz="3600" spc="-1" strike="noStrike">
                <a:solidFill>
                  <a:srgbClr val="800080"/>
                </a:solidFill>
                <a:latin typeface="Minion"/>
                <a:ea typeface="文鼎中黑"/>
              </a:rPr>
              <a:t>Organizational Set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013360"/>
            <a:ext cx="3889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Minion"/>
                <a:ea typeface="文鼎中黑"/>
              </a:rPr>
              <a:t>Wacker/Fri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BMG PH RD 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12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95560" y="571500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987280" y="1413000"/>
            <a:ext cx="3240" cy="430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198900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42920"/>
            <a:ext cx="8359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H RD STE System Test Organization </a:t>
            </a:r>
            <a:br>
              <a:rPr sz="2400"/>
            </a:br>
            <a:r>
              <a:rPr b="1" lang="en-US" sz="16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rganizational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628640"/>
            <a:ext cx="1076400" cy="7318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STE OM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peration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Michael Kappe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907920"/>
            <a:ext cx="1604880" cy="58896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Dr. Klaus W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43700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 SW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Oliver Friede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50028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-A. Gabri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5373720"/>
            <a:ext cx="1076400" cy="730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Walter Foll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56536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OA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Operator Appro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 Schar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56536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Zieg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43700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Wrocl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Thomas Rön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50028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,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ochen Bi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373720"/>
            <a:ext cx="1076400" cy="730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,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Aalb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im Sor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1628640"/>
            <a:ext cx="1076400" cy="730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Director of Project Lea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Claus Frie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781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Board Me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1800" y="1054080"/>
            <a:ext cx="108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43760" y="1330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8760" y="6238800"/>
            <a:ext cx="39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- - - </a:t>
            </a: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only functional reporting, disciplinary assignment to local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56480" y="808200"/>
            <a:ext cx="231840" cy="1490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55040" y="1368360"/>
            <a:ext cx="231840" cy="1494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55040" y="1092240"/>
            <a:ext cx="231840" cy="1490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29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38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479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5800" y="571356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637240" y="40640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46600" y="290196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3720" y="35082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16880" y="40766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4160" y="1325520"/>
            <a:ext cx="0" cy="39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2003400"/>
            <a:ext cx="39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80320" y="28638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80320" y="34830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83560" y="408636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43720" y="2374920"/>
            <a:ext cx="1384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65480" y="2534760"/>
            <a:ext cx="156600" cy="2158920"/>
            <a:chOff x="2265480" y="2534760"/>
            <a:chExt cx="156600" cy="2158920"/>
          </a:xfrm>
        </p:grpSpPr>
        <p:sp>
          <p:nvSpPr>
            <p:cNvPr id="83" name=""/>
            <p:cNvSpPr/>
            <p:nvPr/>
          </p:nvSpPr>
          <p:spPr>
            <a:xfrm flipV="1">
              <a:off x="2266560" y="25347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77720" y="28857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74480" y="34923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5480" y="4092480"/>
              <a:ext cx="14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74480" y="46926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516560" y="2538000"/>
            <a:ext cx="156600" cy="2158920"/>
            <a:chOff x="4516560" y="2538000"/>
            <a:chExt cx="156600" cy="2158920"/>
          </a:xfrm>
        </p:grpSpPr>
        <p:sp>
          <p:nvSpPr>
            <p:cNvPr id="89" name=""/>
            <p:cNvSpPr/>
            <p:nvPr/>
          </p:nvSpPr>
          <p:spPr>
            <a:xfrm flipV="1">
              <a:off x="4517640" y="253800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28800" y="28890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5560" y="34956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16560" y="4095720"/>
              <a:ext cx="14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25560" y="469584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395520" y="2541240"/>
            <a:ext cx="157320" cy="2158920"/>
            <a:chOff x="3395520" y="2541240"/>
            <a:chExt cx="157320" cy="2158920"/>
          </a:xfrm>
        </p:grpSpPr>
        <p:sp>
          <p:nvSpPr>
            <p:cNvPr id="95" name=""/>
            <p:cNvSpPr/>
            <p:nvPr/>
          </p:nvSpPr>
          <p:spPr>
            <a:xfrm flipV="1">
              <a:off x="3396960" y="254124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8120" y="289224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04880" y="349884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95520" y="40989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04880" y="469908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634000" y="2228760"/>
            <a:ext cx="0" cy="312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6360" y="142920"/>
            <a:ext cx="8359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H RD STE System Test Organization </a:t>
            </a:r>
            <a:br>
              <a:rPr sz="2400"/>
            </a:br>
            <a:r>
              <a:rPr b="1" lang="en-US" sz="16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rganizational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520" y="1571760"/>
            <a:ext cx="1076400" cy="7318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STE OM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peration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Michael Kappe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763560"/>
            <a:ext cx="1604880" cy="58896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Dr. Klaus W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6520" y="321300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rko Virk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27440" y="2627280"/>
            <a:ext cx="9320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latform 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Sylvia Schellberg-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3000" y="380700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Holger Abrat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87520" y="263376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Off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Gennaro Evangeli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62760" y="1968480"/>
            <a:ext cx="941400" cy="5176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ecr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atrin Thiels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7600" y="320040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Erik 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8240" y="26128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Leonhard Waig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3209760"/>
            <a:ext cx="90360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Zbyszek Jarzab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0280" y="3816360"/>
            <a:ext cx="90360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arl-Heinz Sad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32194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an Kiwi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2633760"/>
            <a:ext cx="90360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latform 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chael See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3480" y="38131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Ralf Wied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70240" y="44053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irk Fär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4160" y="44146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Oliver Wage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7968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 SW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Oliver Friede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9860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-A. Gabri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6076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Walter Foll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040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OA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Operator Appro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 Schar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24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Zieg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2400" y="5578560"/>
            <a:ext cx="1008000" cy="541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Wrocl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Thomas Rön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824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ochen Bi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Aalb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im Sor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5000" y="5291280"/>
            <a:ext cx="547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500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69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84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7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5772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766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97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46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4600" y="1514520"/>
            <a:ext cx="1076040" cy="730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Director of Project Lea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Claus Frie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37160" y="44053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Sch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5440" y="3811680"/>
            <a:ext cx="90360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chael Schmitz (ex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4560" y="2533680"/>
            <a:ext cx="335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21560" y="254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28926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9480" y="34988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781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Board Me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1800" y="1054080"/>
            <a:ext cx="108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43760" y="1330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760" y="6238800"/>
            <a:ext cx="39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- - - </a:t>
            </a: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only functional reporting, disciplinary assignment to local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56480" y="808200"/>
            <a:ext cx="231840" cy="1490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55040" y="1368360"/>
            <a:ext cx="231840" cy="1494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5040" y="1092240"/>
            <a:ext cx="231840" cy="1490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37360" y="5291280"/>
            <a:ext cx="2235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9840" y="2533680"/>
            <a:ext cx="1062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04000" y="320976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Pascal Reven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0" y="26146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Peter Hennig (ex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718320" y="2852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21560" y="254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49840" y="2533680"/>
            <a:ext cx="106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07160" y="2533680"/>
            <a:ext cx="2057400" cy="1782720"/>
            <a:chOff x="6707160" y="2533680"/>
            <a:chExt cx="2057400" cy="1782720"/>
          </a:xfrm>
        </p:grpSpPr>
        <p:sp>
          <p:nvSpPr>
            <p:cNvPr id="158" name=""/>
            <p:cNvSpPr/>
            <p:nvPr/>
          </p:nvSpPr>
          <p:spPr>
            <a:xfrm>
              <a:off x="7861320" y="320040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Steen H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61320" y="260496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Kim Ankera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6640" y="380196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Flemming Nygaard-Si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775640" y="28526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778880" y="25412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7160" y="2533680"/>
              <a:ext cx="1062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5635800" y="25509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715080" y="34304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4080" y="380700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arco Schul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4360" y="54936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880" y="239760"/>
            <a:ext cx="29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System Test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732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ystem Test Project Lea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Responsibility for all product projects and results (cost, time, quality) and reporting in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and control the coordination, development and approvals of complete system test in all product projects from  M</a:t>
            </a:r>
            <a:r>
              <a:rPr b="1" lang="el-GR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to 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projects in terms of value, speed and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of the complete system test process chain towards the overal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development process in terms of duration, effort and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Lead of all project leaders in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5320" y="18900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MOK &amp; 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268280"/>
            <a:ext cx="744228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Modem KLf and M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 system test and support to 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ility test with network vend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tions,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6240" y="189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SWK &amp; SW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268280"/>
            <a:ext cx="74422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SW (Application test) KLf and M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ility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ance test in scrum t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of PC-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tion of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93280" y="189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S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268280"/>
            <a:ext cx="7442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SW (Application test) W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ance test in scrum t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upport for operator acceptanc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69880" y="1890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O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268280"/>
            <a:ext cx="7442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Operator Acceptance (M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 Approvals for key 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site support for key 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 to G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64840" y="189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268280"/>
            <a:ext cx="744228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tion Management M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 and decide about certification/conformity assessment/regulatory requirements strategy including related standardization in accordance with project requirement and ST line manag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 Invest process and strategy (including related maintenance costs, formerly GK) and provide proposals for decision for head of ST about investments according to project- and business- targ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 specific contract management with support of ST line manag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 specific NDA management with support of ST line manag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, define and release ST relevant processes in alignment with project </a:t>
            </a:r>
            <a:r>
              <a:rPr b="1" lang="en-GB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line management and other disciplines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wackerk</cp:lastModifiedBy>
  <dcterms:modified xsi:type="dcterms:W3CDTF">2006-05-15T12:22:11Z</dcterms:modified>
  <cp:revision>129</cp:revision>
  <dc:subject/>
  <dc:title>PowerPoint 簡報</dc:title>
</cp:coreProperties>
</file>